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B4A-A81E-4201-B902-05AF1186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2B5-6F85-4BFB-954F-4F146275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CCB-3899-41EF-8F6C-42E39A57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D6E-6B4A-4EC0-8207-0E4C6324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90D-B7FF-4521-A905-02CA3A78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A1E-3913-43EB-9320-DE35BD1B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9A3-8702-498F-8128-68CFEA54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F09-25A0-4289-B766-DE1B2E20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BA7-BCAD-4B19-8C1D-B3067F4B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4E7-C100-4591-8CCA-5BF2F78D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99B-6147-42A8-86D1-B05BCCEA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264-F278-49EA-AEFE-D9CDB6B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68A4-0B6B-46CF-80A9-0CAFC480B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to 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 1: How do we learn about European Colonization of Africa? Whose story do we tell?  What do you think could be wrong with this stor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 does who tells the story mat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 2:What if I told you that Europeans purposely created political boundaries to keep Africa subservient to Europe (that is--blacks serve Whites—whites exploit the land the peopl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21:34:12Z</dcterms:created>
  <dc:creator>callen</dc:creator>
  <dc:description/>
  <dc:language>en-US</dc:language>
  <cp:lastModifiedBy>callen</cp:lastModifiedBy>
  <dcterms:modified xsi:type="dcterms:W3CDTF">2012-02-29T22:04:29Z</dcterms:modified>
  <cp:revision>1</cp:revision>
  <dc:subject/>
  <dc:title>Slide 1</dc:title>
</cp:coreProperties>
</file>